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3879-4DBB-42BE-BF7C-3632897E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5868-50E8-4227-907D-F2A748F4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0D70-6E73-4817-A0CB-3CC23DF2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F025-36E0-4919-B24F-192AC024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010F-1FAA-45CB-9D3D-0A29D67B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5169-0743-4BC0-BBF0-8435F3E3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86A7-0D9F-4E7A-B005-3C4EED5E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D790-7E4C-42C7-A892-9A7FC18F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D771-5EFC-4A69-8A5C-04539594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0BC7-E302-41F1-A627-4305AE1A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1484-AEC7-4031-ACA2-1F7EE48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D29E-87B4-4E17-BF6E-C00DBAC2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FD1D-F7A4-4227-A767-F92A9C7D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2E58-2043-4D61-90BF-03EE8300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DEC3-0549-4F14-BD54-DB8E0574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E71A-B7DC-43E5-9F61-DE7A4CBE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5145-B021-411A-AC4B-D06A6262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F984-9872-4FC8-AA99-61B6E010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1C91-ACFB-41BA-B007-8F72E0BC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6E9E-8BA5-4000-93B2-990D1225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10CA-9342-486F-B453-8DEB3043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8941-14F6-4E02-8773-CDEA4A8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B84C-A11D-4A41-8D33-358EA9CC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2F69-3037-4A07-97C2-7C6A48F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986E-A742-4039-AD2D-562E04CE89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9A97-1DC4-4D23-B4DF-8A5BBF9F18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ffcc"/>
                </a:solidFill>
                <a:latin typeface="Garamond"/>
              </a:rPr>
              <a:t>Веселая гимнастика для язычк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08360" y="393372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пражнение «Чашеч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Широко откры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сунуть широкий язык и придать ему форму «чашечки» (слегка приподнять кончик я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1056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Вкусное варенье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Улыбну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Откры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Широким языком в форме «чашечки» облизать верхнюю губ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1752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Гармош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делать «грибочек» (присосать твердый язык к небу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 отрывая языка, открывать и закрыва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484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Заборчик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, с напряжением обнажив сомкнутые зу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169560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609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Чистим зубк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, откры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чиком языка с внутренней стороны «почистить» поочередно верхние и нижние зу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178128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Качел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кры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чик языка за верхние зу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чик языка за нижние зу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60956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65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Garamond"/>
              </a:rPr>
              <a:t>Делайте зарядку со своим язычком и будьте здоровы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Garamond"/>
              </a:rPr>
              <a:t>Презентацию подготовила студентка гр. 617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Garamond"/>
              </a:rPr>
              <a:t>Канева Надеж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6:15:40Z</dcterms:created>
  <dc:creator>студент</dc:creator>
  <dc:description/>
  <dc:language>en-US</dc:language>
  <cp:lastModifiedBy>студент</cp:lastModifiedBy>
  <dcterms:modified xsi:type="dcterms:W3CDTF">2012-04-20T06:55:25Z</dcterms:modified>
  <cp:revision>2</cp:revision>
  <dc:subject/>
  <dc:title> Веселая гимнастика для язычка</dc:title>
</cp:coreProperties>
</file>